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6F2-2B29-4EE2-A87B-A5DA1947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CB9-6088-4C9B-B179-321AC60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5AE-AC2F-4A53-BCA9-9C2D223A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B32-1E63-4968-90FE-99200A13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304-A9CA-4CFE-8DCB-E6E2886D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427-4352-4117-B969-E57DB6A3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096-1B2C-47E4-AC2E-FE555E1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B56-A506-4A12-A888-E77CA82B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6BD-0853-4E7F-8F8A-7946DC1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565-5516-497B-BFF5-586FBAE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A6E-5D40-4778-9A6E-882EED0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AA6-C3F0-4572-9784-9C49090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B3D-35E9-4FCF-8E29-10E7E523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0 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stúp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zostúp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buduj si v nás svoj chr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eň z neba, kiež tvoj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ameň viery nieti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u Svätý, mocne v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zo spánku, svieť a hre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verných tisí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ôsob nové Turí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tvoja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ôže v nás hriechu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ládne aj život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naša vern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vždy nás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m svetlom do tmy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vieru posil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pravdy utvrdz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íme o nová j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z nížin pozemsk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krás večných, nebesk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3:46:45Z</dcterms:modified>
  <cp:revision>14</cp:revision>
  <dc:subject/>
  <dc:title>Je veľký náš Pán, on slávy je Kráľ Nech do všetkých strán  spev vrúcnych znie chvál.</dc:title>
</cp:coreProperties>
</file>